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0BA-017A-46CA-BEA1-7F2AA5CE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996-27B0-49B4-9949-E0D6DB68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779-6750-41C9-93E4-AED68E4F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BCA-4AC8-4035-8BFE-23367E20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BE0-3A1E-4B61-B876-606E6DC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735-EB95-4A63-9068-A917E005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34F-D27C-4621-B5F3-6FF63EED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6E1-DD75-4FD7-A289-54738C9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123-9FA7-40A1-A62B-6A552DFE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884-47BE-407C-B75B-E7F36C9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8B1-CCC0-409A-8B73-777557D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FCE-BC09-4A8F-A7ED-F7F8F3E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4BA-6946-412F-8810-C366837F01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ectious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ic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ste leftover from processing castor bea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/D, dehydration, hypotension, hallucinations, seizures, hematuria, multiple organ dysfun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tx availa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s Immediate Treatment, Suspect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Sympt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ute: Cyan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so nerve agents, mustard, lewisite, phosgene, SEB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layed: Anthrax, Plague, Tularem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so Q Fever, SEB, ricin, mustard, lewisite, phosge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urological Sympt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ute: Nerve ag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so cyani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layed: Botu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so VEE-C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ve” Resear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ge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r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. Kor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kist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y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iw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retly” Develop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i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uss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mer”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a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. Af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K,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munocompromis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ciencies 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G/B-C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agocy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-c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urrent Neisseria in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urrent pneumon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re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neumocystis jirove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rkholderia cepac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n-TB Mycobacte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pergill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lement Deficie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ditary angioede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1 inhibitor deficien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veractive compl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nor stressors trigger attac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5-9 Defici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C lysis def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isseria bacterem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F and CD5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oxymal nocturnal hemoglobinu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1, C3, C4 defici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current pyogenic sinus and respiratory inf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1q defici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0% have S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g/B-Cell Deficie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(Bruton’s) X-Linked Agammaglobulinem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tk defect, no B-cells, I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pyogenic infec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o live vaccines!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: IvI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yper IgM Syndrom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X-linked, normal B-ce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ow Ig but high Ig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neumocystis infec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-cells lack CD40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VI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ow Ig, normal B-ce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current sinus, respiratory infec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hronic infections with Giardia, Campylobac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: ATB, IVI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gA deficienc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ssociated with CVI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mpensated by oth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ary Ig deficienc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myeloma, leukemia, skin bur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utrophil Deficie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utrope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aus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lacks have lower coun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Chemotherapy patient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ost-infection, seps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Sulfa-drugs, </a:t>
            </a:r>
            <a:r>
              <a:rPr b="0" lang="el-GR" sz="19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-lactam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ec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ucosit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Ecthyma gangrenosum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isseminated candidias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Aspergillos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reditary Cyclic 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D, ELA2 mu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edictable cycl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phtous stomatit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: G-CSF, steroid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ediak-Higashi Syndrom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R, LYST mu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iant lysosomes, ineffective granulopoies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culocutaneous albinis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utrophil Deficie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Job’s Syndr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yper IgE, impaired chemotax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3 gene mu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cies, scoliosis, skin abscesses, sinus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eloperoxidase (MPO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s pus gre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rts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o HOC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ciency impairs th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G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ective NADPH oxidase, no respiratory burst, no kill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ections with catalase positive organis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BT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leen “Deficiency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lenectom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uma, ITP, Hairy cell leukemia, abs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osplen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toimmune (Graves, Hashimoto, SL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oplasia (Hodgkin, CML, Sezary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yloido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coholism, elderly, Crohn’s, Sickle c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rease in circulating activated B-cells (75%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sk of thalassemia &gt; hodgkins &gt; sphero-cytosis &gt; ITP &gt; sep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. Pneumoniae (mostly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emophilus, GNR, Neisseria (less commo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-Cell Deficien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iGeorge’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letion 22q11.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o T-cells, hypocalcemia, velocardiofacial defect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CI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mbined B/T-cell deficiency, lymphopenia, hypogammaglobulinem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DA, PNP, RAG1/2, Jak3 gene deficienc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D4 T-cell Deficienc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IV, &lt;300 CD4+/m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iskott-Aldric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ASP prote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yogenic infections, purpura, eczem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igh IgA, IgE, low Ig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ec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ycobacteria, norcardia, legionella, cryptococcus, histoplasma, pneumocystis, herpesvirus, cryptosporidium, toxoplasm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p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RS – systemic respon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emp &gt;38C (&lt;36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R &gt;90bpm, RR &gt;20bpm (Pa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Calibri"/>
              </a:rPr>
              <a:t>CO2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&lt;32mmHg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BC &gt;12k or &gt;10% band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psis = SIRS + Infe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re Sepsis = Sepsis + Organ Dysfun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ptic Shock = Sepsis + Hypoten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IRO severity stag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LR 4 – LPS (Gm-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LR 2 – PGN, LTA (Gm+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ever, inflammation, DIC, ARDS, azotemia, olyguria, cellulitis, purpura, GI bleeding, jaundi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calcitonin diagnostic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x: ATB, supportive, Activated Protein C (Xigri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od Safe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ilk pasteurization: 72C for 15s or 63C for 30m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otulism spores: kill with high heat + acid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eservatives: weak acids, nitrites, sulfites, spice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diation: </a:t>
            </a:r>
            <a:r>
              <a:rPr b="0" lang="el-GR" sz="3000" spc="-1" strike="noStrike">
                <a:solidFill>
                  <a:srgbClr val="ffffff"/>
                </a:solidFill>
                <a:latin typeface="Calibri"/>
              </a:rPr>
              <a:t>γ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irradiation for spices, mea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vival: Cold – Listeria; Chlorine – Giardia, Cryptosporidum cysts; Anything home processe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utbreaks: Listeria (microwaved hot dogs), Cyclospora (raspberries), Salmonella, ETE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uberculosis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Mycobacterium tuberculosis, bovis, african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cid-fast, aerobic non-motile bacillus, reduce nitrates, produce niacin, slow growin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CTEC blood culture, DAT tests using PC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PD (Mantoux) is killed tuberculin, positive if &gt;15 mm, indicates prior infection (LTBI), need CX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isks: (normal)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ear: 3-4%, lifetime: 5-15%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HIV infected)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year: 40%, +10% every yea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x: test susceptibility, give multiple drug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H + RIF + ETH (+ PZA), INH prophylaxis, hepatotoxic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uberculosis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Mycobacterium tuberculosis, bovis, african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ected aerosolized droplets, milk (M. bovis), replicates in middle/lower lobes alveolar space, Rasmussen’s aneurysm (pulmonary a.), pleural effusion, sputum with PM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 to hilar lymph nodes in macroph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ctivate in upper lobes, cavities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disseminate through blood (military TB), skin lesions, HA, abd pain, osteomyel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eprosy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Mycobacterium lepra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epromatous Lepros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or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respon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rge # of bacteria in tiss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ectious, non self-limi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rifampicin (monthly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dapsone (daily) - FR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ckened peripheral ner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ss of sensation, lesions, peripheral nerve damage, hair loss, disfigur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uberculoid Lepros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ong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respon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 # of bacte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f-limi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m granulom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ID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HIV infec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nti- retrovirus, persistent viremia, infects T-cells and macrophages (CD4 + CCR5/CXCR4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D4 &gt;500 asymptomatic, 200-500 increased thrush, shingles, &lt;200 opportunistic infections, &lt;50 MAI, CMV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D4 drops 10/month on aver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ransmitted by breast milk (acute), blood, seme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isk: blood 95%, pregnancy 20-33%, MSM 10%, needlestick 1 in 300 (1 in 2400 with therapy) Acute infection “mono”-like w/ rash, ulcers, and w/o tonsil hypertrophy and exudat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ID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HIV infec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esents with unexplained anemia, leukopenia, recurrent pneumococcal pneumonias, Kaposi’s sarcoma, thrush, wasting, STD, fev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reen: ELISA, Confirm: Western Blot, Viral Load: PCR, Severity: CD4 Cou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AART Treatment: NRTI (AZT, 3TC), NNRTI (nevirapine, efavirenz), protease inhibitors (ritonavir, nelfinavir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pportunistic Infections: CMV, MAC, PCP, Toxoplasmosis, Cryptococcosis, Candida, PM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onorrhea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Neisseria gonorrhoea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m- diplococc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ect columnar/cuboidal epi, PMN response, pharynx, anorectal, conjunctiv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read via sex and perinat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uria w/o frequency or urgency, pain, discharge, cervicitis (PID complica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x by culturing swab for diplococc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 with Ceftriaxone IM/cefixime P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lamydia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C. trachomatis, psittaci, pneumonia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acellular membrane-bound inclu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x with culture, DFA (MicroTrak), ELISA, annual screen sexually active women &lt;25 y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 Azithromycin x 1 or Doxycycline bid x 7d, abstinence x 7d after treat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lamydia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C. trachomatis, psittaci, pneumonia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GV (ST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demic in Africa/SE Asia/ India/S. Ame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inless ulcer (heals) to lymphadenopathy (scars) to ulceration of genetal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Doxycycline po bid x 21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rethr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G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-14d incub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ysuria, scant dischar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l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ID, ectopic pregnanc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iter’s syndrome (arthriti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ichomonas Vaginal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agellated motile protozo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, purulent, frothy, foul-smelling vaginal discharge, itch, dysuria, lower abd p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: Metronidazole (ok in pregnanc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ver / Hypertherm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ev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ypothalamic setpoint shifted up by PG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stimulating EP-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yogenic cytoki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neumonia, drugs, PE, DVT, C. difficile, fungal infection, MI, NG tubes, IV cath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ypertherm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ypothalamic setpoint unchang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es not respond to NSAI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at stroke, hyperthyroidism, atropine, ecstasy, malignant hyperthermia, serotonin syndr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acterial Vaginosi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Gardnerella or Mobilun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ld to moderate thin, gray, adherent vaginal discharge with odor, it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ue cells (squamous cells stippled with bacter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+Whiff test (fishy smell in KOH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: Flagyl/Clindamycin (+Metronidazole in pregnant wome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erpes Simplex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HSV-1/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sicular lesions, grouped, painful ul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ubation 6 days, primary disease lasts 3w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urrence in 90% of pati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x by Tzanck smear (Wright stain) showing multinucleated giant ce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: Acyclov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yphili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Treponema pallidu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⁰ - localized painless chancres (ulcerated, non-tender, hard, smooth clean base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⁰ (25% untreated) – 3-6 wks after chancre, generalized rash on palms/soles, condylomata lata (flat warts), minimally prurit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atency – High Ab titers, 30% progress to 3⁰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⁰ - “gummas” (granulomatous lesions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urosyphilis: general paresis (insanity)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abes dorsalis (demyelination of posterior columns - sensation), Argyll Robertson pupil (non-reactive to light), gun-barrel sigh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yphili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Treponema pallidu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genital: affects muscle, skin, bones; saber shins, saddle nose, Hutchinson’s tee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x: non-specific VDRL, RPR (negative in 1⁰, 3⁰), specific FTA-ABS test (confirmato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: (1⁰, 2⁰) Benzathine – Penicillin G IM x 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late latent) Benzathine PCN G q week x 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neurosyphilis) IV PCN G q 4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ancroid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H. ducrey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inful ulcer/ragged edges, painful inguinal lymphadenopat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associated with HIV inf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ubation 4-7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: Azithromycin x 1 or Ceftriaxone IM x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novanosi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Klebsiella granulomat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inless destructive ul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lymphadenopat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x: Doxycycline (+aminoglycosid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CH Syndr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asymtomatic but baby has: small size, hepatosplenomegaly, rash (thrombocytopenia), CNS defects (encephalitis, seizures), jaundic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xoplasm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ther (syphilis, HIV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bell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MV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SV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CH Syndr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oxoplasmo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tect IgG for previous infection, positive immun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not immune: monitor for IgM (acute), avoid undercooked meat, garden soil, wash fruits and vegetables, handwash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eat infected infants aggressive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ther (syphili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st all pregnant m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positive, treat monther with penicillin, if allergic to PCN then desensiti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ected babies commonly show bone lesions, screen CSF for neurosyphil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CH Syndr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ther (HIV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 transmission b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ti-HIV therapy (zidovudine) during pregnancy and at bir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ive infant antiretroviral therapy  for 16 wee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esarean deliv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 breast feed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ubell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ccinate mo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est risk when mother infected i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rimester, no risk after 16 wee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ected infant has patent ductus arterios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RCH Syndro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MV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ngerous if mother not immune before pregnan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mother not immune, 40% transmi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% infected infants have neurological symptoms (hearing loss, M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ducation, handwashing, no vacc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SV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inatal infection by reactivated herpes les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 transmission by Cesarean s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 treat mother with acyclovir around birth time to reduce transmi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eat infected infants with antiviral therap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Anthrax (Cutaneous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Bacillus antrac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rect contact with spo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et black lesions (eschars) on skin within 7-10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bation 1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Cipro or Doxy q 60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ccine: attenuated A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otulism (Inhalation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Bacillus antrac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haled spores, no person-to-person transmi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bation: 1w to 2 mon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astinal widening, pleural effusion, infiltra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itial symptoms improve, abrupt onset of fever/ARDS, shock/death within 24-36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Penicillin or Cipro/Dox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ther Congenit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B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inatal infection (50%), anogenital screen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cern in newborn (meningitis), infant (sepsi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SV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imary infection during pregnancy very serious, especially during first 20 weeks (later is mil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VZV Ig given within 96h of exposure, no vacc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etal infection results in short limbs, skin scars, C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19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st maternal infections do not lead to fetal infe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ant symptoms: death, anemia w/ blueberry ras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docard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ection of the endocardial surface or val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ace disrupted, platelets/fibrin deposit on exposed collagen forming sterile thrombus, transient bacteremia infect sterile thrombus on low pressure side (Venturi effect), thrombus grows, Ab cannot clear inf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established, require ATB to c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wo types, native or prosthetic valve endo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docard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ative Valve Endocard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ridans strep most common (followed by S. aureus, Strep, Enter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culture negative, can be HACEK, intracellular pathogens, fung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4720" y="2174760"/>
            <a:ext cx="41180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sthetic Valve Endocard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agulase negative Staph most common in early P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te PVE similar to NVE but coag neg staph still comm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telets still depos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ection of surgical site leads to ring absc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docard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ever + murmur, persistent bacterem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sidious onset of non-specific sympto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story of heart disease, dental wor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mall red lesions on palms/soles, Janeway are non-tender, Osler’s is tend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oth spots – retinal hemorrhage w/ central pall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plinter hemorrhages under nai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emia, elevated ESR, TEE echo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docard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x: Duke – microbes on valve OR 2 major OR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 major &amp; 3 minor OR 5 mino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x: IV Bactericidal for &gt;4 week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Viridans) IV PCN + aminoglycosid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Culture-neg) IV Ceftriaxon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MRSA) Vancomycin + Gentamycin + Rifampi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Entero) Ampicillin + Gentamyci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Fungi) Amphotericin B + SURGER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2+ embolic event) SURGE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phylaxis: Amoxicill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iratory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hin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hinovirus, parainfluenza, RSV, coronavirus, 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hinorrhea, little cellular damage, self-limi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ymptoms peak days 3-4, persist 1-2 wee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te August to early spring, unrelated to te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fluen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ding infectious cause of death i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e A shifts H+N antigens easily, B less 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ccine: 2 A strains, 1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antadine resistance is preval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iratory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Typical Pneumoni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Streptococcus pneumonia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usty sputum, unilob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pirated into alveolar space, fills with fluid and PMN, then fills with blood (2-3d), then fill with fibrin, then resolve w/o scarr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plenic, sickle-cell, agammaglobulinemia at ris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ccine has 23 seroty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Atypical Pneumoni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Mycoplasma pneumonia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y cough, myring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haled, attaches to respiratory cell, bronchitis infiltrated by plasma cells, lasts 2-6 w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ilar to Chlamydophil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usual over age 4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gM cold agglutin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iratory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spiration Pneumon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ronic, foul sput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lymicrobial anaerobic, microaerophilic aspirated into lu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coholics, seizures, tracheoesophageal fistula are risk fact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Clindamycin PO x 3w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ute Bacterial Mening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. pneumonia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accine covers most typ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. meningitidi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 cause half infec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accine does not have B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. influenza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ype b vacci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. monocytogen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onates + elderl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&lt;4w GBS, &lt;18y H.flu, 18-50y S.pneu, &gt;50y L.mono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iff neck, Kernig’s sign (leg extension resisted when supine), Brudzinski’s sign (neck flex causes hip flex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x: CNS leukocytosis, positive cultur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x: Ceftriaxone (+Vanco if community acquired) (+ampicillin if immuno-compromised)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+ Dexamethaso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ute Viral Mening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terovir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ids &gt; 2 wks o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mmer mon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nd-foot-mouth disease, herpangi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SV-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eptic mening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ital w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eptic mening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cosal to viremia to BBB crossing to subarachnoid space to CSF to inflamm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x: LP &lt;1000, mostly lymphocy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x: (enterov) noth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HSV-2) acyclovi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HIV) HA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Anthrax (GI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Bacillus antrac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gested spores, no person-to-person transmi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/V, severe abd pain, bloody diarrhea, possibly mediastinal widening, rebound tenderness, asci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bation: 1-7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Penicillin or Cipro/Dox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otulism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Clostridium botulinum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st poisonous toxin on ear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 contagious, spread by aerosol/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-72 h incub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/V, diff see, swallow, spea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scle weakness/paraly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ronic Mening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g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SF glucose normal, protein &gt;60, WBC &lt;5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ubercul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SF protein &gt;&gt;1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B smear, +cul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ronic symptoms with gradual neurologic dec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x: history, PE, L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x: most likely dia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acranial Abs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ontal: sinus, tee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mporal: ear, jaw, sinu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rebellum: ear, jaw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p, GNR, Bacteroides, S. aureus, Fusobac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CA: blood, lung, hea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ph, Strep, Fusobacter, Actinomyces, Anaerob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neath wou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ostridium, Staph, Stre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urologic defic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-3d: early cerebriti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-9d: late cerebriti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0-13d: early capsu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14d: late capsu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x: MRI/CT c contra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x: Surgical drainage, manage ICP, cultu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ronidazole + ceph + naf/vanc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al Encephal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trea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EEV, WEEV, VEEV, St. Louis Encephalitis, West Nile, Polio, Rabies, HIV, Meas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SV-1/2, VZV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tered mental status, decrease LOC, seiz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ter brain via blood, retrograde transport, exposed CN-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x: EEG, MRI, LP/PC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x: Acyclovir if trea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bdural Empyem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cteriolog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rep, Staph,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. pneumoniae,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. influenzae,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erobes, GN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ually polymicrobia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lammatory Sour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-80% frontal/ethmoi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0-20% mastoid/AO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% hematogenou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ltered mental status, focal neuro signs, seizures, like rapidly expanding mass le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ach via emissary vessels or osteomyeliti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x: MR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x: Burr holes, craniotomy, manage ICP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tronidazole + Ceftriaxone + Naf/Vanco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pidural Abs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tracrani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racranial epidural abscess spills over into subdural sp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1% associated with subdural empyema, similar bacteriology, diagnositic, trea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pi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inly S. aureus (60-90%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bscess covers 4-5 vertebra but can extend entire lengt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ocal pain, radiculopathy, increasing paralys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acteria enter space by osteomyelitis or hematogenou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x: MRI, myelogra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: Surgical drainag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etro + 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gen ceph + Vanc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socomial Preca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tandard: gloves, do not recap needl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ectious: blood, CSF, amniotic/vaginal fluid, sem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ow Risk: saliva, sputum, urine, fec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rgery: double glove, cover shoes, (face shield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tact: gown (+glove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VRE, MRSA, C. difficil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roplet: surgical mas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luenza, Mumps, Meningococcal Meningiti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irborne: N-95 mask (particles &lt;5 micron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B, Chicken Pox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socomial Risks and Numb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cidental contaminated needlesti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:300 HIV (therapy decrease risk 8-fol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:30 Hepatitis 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:3 Hepatitis B (without therapy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terial drug resi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3% S. aureus in hospitals are MRSA (200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0% E. faecium in this area are V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teruria occurs in 100% of patients with indwelling urinary catheters after 30 d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e prevent UTIs by emptying bladder, valves, normal flora distally, lack glucose, Tamm-Horsfall protein (prevent E. coli attachment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er UTI vs Upper UTI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ower UTI is the lower poles and the bladder, upper UTI is the upper poles and the kidney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ncomplicated vs Complicate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ncomplicated is adult female who Is not pregnant with normal urinary tract anatomy/fx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. coli most common cause of UT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ower U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ysti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ysuria, frequency, urgenc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yuria tested by urine dipsti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maturia, bacterur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ncomplicated tx Cipro x 3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plicated tx Cipro x 7-14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rethri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sually due to ST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stati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void rectal exam if acu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ute tx: TMP-SMX x 14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ronic difficult to tre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pper U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ever common sympt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yelonephrit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5% E. coli, 15% ente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ysuria, frequency, urgenc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ver, CVA/flank tenderness, N/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rosepsis” appear sept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x ampi + aminoglycoside x 14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nal Absc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re complication in D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 be caused by S. aure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x CT/Ultrasoun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x anti-staph PCN, cephalospor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ther U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atheter-related U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st common nosocomial inf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welling = Foley ca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stly by E. coli, Proteus, Pseudomonas, Enterococ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 lead to “urosepsis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change the cathe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oad spectrum ATB x 3-5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% develop asymptomatic bacterur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creened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visit and 2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week (or 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week onc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sociated with premature labor, stillbirth, low infant birth weigh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 amoxicillin, TMP-SMX, cephalosporin to eradic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Choler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ce-water diarrhea, dehydration, sho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bation 12h-5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/water spre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Glander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Burkholderia mallei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s horses, mules, donkey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ters cut skin, mucous membranes, inha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elluliti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Staph. aureu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| 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Strep. pyogen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urce: anterior na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ulence: hemolytic toxin and leukocid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urce: nasopharyn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ulence: M-protein and hyaluronida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14"/>
          <p:cNvSpPr/>
          <p:nvPr/>
        </p:nvSpPr>
        <p:spPr>
          <a:xfrm>
            <a:off x="457200" y="29718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try by infected oil gland, puncture, bite, rash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 risk: poor lymph drainage, blood suppl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neutropenia, hypogammaglobuli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x: elevate extremity, local heat, AT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ria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etigo – confined to dermis with cru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rysipelas – rapidly spreads, raised bord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runcles – local abscesses from infected gl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rbuncle – several connected furun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kin and Soft Tissue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ynergistic Gangre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ostridium perfringens is synergistic with GNR, S. aureus causing cellul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crosis of blood vessels, gangrene of subcutaneous tissue, spreads rapid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Surgical remo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Toxin-Cased Skin Inflamm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xic Shock Syndrom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phylcoccus protei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squamation of skin of hands, feet, tong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ypotension, organ fail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carlet Fev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eptococcus toxi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use red r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calded-skin syndr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phylococcal toxi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hydration, inf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kin and Soft Tissue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nthra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cillus anthracis, a soil bacteri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ked edema, necrosis surrounding black ulc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% fatal if untrea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mon in underdevelopd wor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steurella Multoci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m- coccobacill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t bi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in/swelling at bite can spread to joints and bo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opening bite, cleaning, PC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kin and Soft Tissue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Lymphocutaneous Granulom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ycobacterium manium or Sporothrix schencki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inful papule can ulcerate, spread along lymphat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. marinum: exposure to fresh/brackish wa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. schenckii: exposure to plants (rose thorns, hay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(fungus) Itraconazo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bac) rifampin+ethambut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yme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rrelia burgdorfer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er tick bite, expanding disc of redness clearing in center (bulls-eye), lethargy, fever, can progress to arthritis and CNS sympto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PCN, tetracycl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I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mission: Feces, Food, Fluids, Fingers, Fomites, Fornication, Fl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ose+ (CSEEK) Citrobacter, Serratia, E. coli, Enterobacter, Kle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ose- (invas) Salmonella, Shigella, Yersin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ose- (opportunistic) Prot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n-motile Gm- rod: Shigella, Kleb, Yersin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br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lera toxin: increase cAMP results in water loss and dehyd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ce water diarrhea, no fever, no inflam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lophilic, Gulf Coa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read via contaminated food/wa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brio parahemolyti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roperly cooked seafood, oys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I year-round, wound infections and septicemia in summ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brio vulnifi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ery virul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ting oysters can cause sep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thogenic E. coi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TEC (-toxigeni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veler’s diarrh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aminated food/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xins cause diarrh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T ↑cAMP, ST ↑cGM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PEC (-pathgeni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ant diarrh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ffacing of microvilli, increased signal trans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al/fecal, hands, f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HEC (-hemorrhagi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ody diarrh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ver, HUS (hemolytic anemia, oliguric RF, thrombocytopeni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 coli O157:H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higa-like toxin, St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rgers, apple ju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 not give AT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EC (-adhesiv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asive Enteric Pathoge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igell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. dysenteriae (developing countries, shiga toxin stops protein synthesis), sonnei (US), flexneri, boydi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istant to aci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0% &lt;15 yo ki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vade colon, multiply intracellular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monell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. typhi (humans), choleraesuis (pigs), typhimurium (U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hoid fev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cteria invade and divide in macropha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rrier in gallblad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 (typhi) ampicillin, cefriaxone, bactri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asive Enteric Pathoge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Yersi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Y. enterocolitica and pseudotuberculos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sist phagocytos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lood transfusion disease (grow at 4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lgian chocolat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imic appendicit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: Cipro, TMP-SMX, third gen cep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amphylobact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Gm- comm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. jejuni (most common US gastroenteritis, poultry, unpasteurized milk, water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. fetus (spread to blood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. upsaliensis (uncommon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amage jejunum mucosa, ulceration, self-limite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uillan-Barre sequa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licobac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. pylor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piral Gm- rod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rkscrew motil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rease produc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eptic/duodenal ulcers, gastritis, carcinoma, MALT lymphom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ecal-oral transmiss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x ELISA, urease breath test, silver stain, biops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 proton pump inhibitor + tetra + metro + bismut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. cinaed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astroenteritis, septicemia, proctitis, cellulitis, sepsis in IC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mosexual me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 amp and/or gen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. fennellia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astroenteritis, septicemia, proctit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mosexual me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 amp and/or gen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Plagu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Yrsinia pest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lack Death”, infected fl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ubonic – 1-10 cm buboes on skin w/ edema, flu-like symptoms w/ abd p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epticemic - secondary septicemia, thromboses in acral v. leading to necrosi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enumonic – acute fulminant symptoms, nearly 100% mortality rat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x: Streptomycin or Doxycycli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Q Feve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Coxiella burnetii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nspecific febrile syndrome, pneumon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patitis, endocarditis, granulomatous compl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Doxycycline 14-21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Smallpox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Variola majo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ficially eradica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bation 10-14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 fever, HA, backache, vomiting, rash on palm/so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ly contagio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 tx, vaccine within 3-5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Tularemi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Francisella tularens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e of most infectious bacteria in wor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ick/insect bi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ubation 10-14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ver, chills, HA, cough, lethargy, skin ulcers, lymph-adenopah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terro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GB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Sari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nary weapon – two non-lethal reagents mix to form sarin g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hibit ACHe, phosphonate esters, light brown o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mild: dim vision, salivation, chest tight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Atropine and 2PAMC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X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00x more toxic than G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sists in soil for 6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nary weap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hibits ACHe, phosphonate esters, light brown o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severe: stop breathing, paralysis, seizures, LO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59:22Z</dcterms:created>
  <dc:creator>JP</dc:creator>
  <dc:description/>
  <dc:language>en-US</dc:language>
  <cp:lastModifiedBy>JP</cp:lastModifiedBy>
  <dcterms:modified xsi:type="dcterms:W3CDTF">2008-11-14T04:56:29Z</dcterms:modified>
  <cp:revision>83</cp:revision>
  <dc:subject/>
  <dc:title>Infectious Diseases</dc:title>
</cp:coreProperties>
</file>